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CCB-5512-407D-9414-6EE61B53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73F-7484-467E-9379-5A56179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080-AFB8-4B77-A56D-9CA416FE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8A9-D265-4FF8-B709-BDB286D1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1D3F-51AD-424F-8389-B61721D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4581-912A-465C-9D22-D2FF3862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B33A-24DA-40C6-9A30-40D845FB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0763-D324-474E-BF19-D64C3D3E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671C-5D46-46D5-AC7E-4A577CF2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D09B-B994-49BB-8990-082772B3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B86-23FA-478B-8140-957C9FA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7B0-7E5E-43F6-84B0-DDF6334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0F95-2A9F-4243-828B-A63C1BE2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8D5-6093-4774-BA67-3D13D63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4E1E-29AE-4CBB-92E2-8E571DB5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9B27-CDFB-4E4C-97B4-FDE32381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629-FD03-4BA4-91A9-3F6C65DB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960-6D5F-48E5-8B82-9C5A056D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668-0A3C-4998-A7C5-88DF4C1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89D-FFFF-4C7E-AEDA-300CAE8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C81-827B-4927-BBEC-13BE1F20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178-393F-4DA0-9632-FE4CA30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6E6-65AE-4971-99B1-E8B78E0A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79C-0918-488F-86A4-E717906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254-C1D7-4A5D-A887-13F5FEB5AF9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F0E-EF5C-4A19-88A5-6034803EB36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Weed%20Is%20a%20Flower.htm" TargetMode="External"/><Relationship Id="rId2" Type="http://schemas.openxmlformats.org/officeDocument/2006/relationships/hyperlink" Target="http://www.scottsboro.org/~flewis/SF%20Reading%20Street/spellmaster/Weed%20Is%20a%20Flower/jigword2.html" TargetMode="External"/><Relationship Id="rId3" Type="http://schemas.openxmlformats.org/officeDocument/2006/relationships/hyperlink" Target="http://www.scottsboro.org/~flewis/SF%20Reading%20Street/spellmaster/Weed%20Is%20a%20Flower/matchword2.html" TargetMode="External"/><Relationship Id="rId4" Type="http://schemas.openxmlformats.org/officeDocument/2006/relationships/hyperlink" Target="http://www.scottsboro.org/~flewis/SF%20Reading%20Street/spellmaster/Weed%20Is%20a%20Flower/speedword2.html" TargetMode="External"/><Relationship Id="rId5" Type="http://schemas.openxmlformats.org/officeDocument/2006/relationships/hyperlink" Target="http://www.scottsboro.org/~flewis/SF%20Reading%20Street/spellmaster/Weed%20Is%20a%20Flower/wordsearch2.html" TargetMode="External"/><Relationship Id="rId6" Type="http://schemas.openxmlformats.org/officeDocument/2006/relationships/hyperlink" Target="http://www.scottsboro.org/~flewis/SF%20Reading%20Street/spellmaster/Weed%20Is%20a%20Flower/wordweb.html" TargetMode="External"/><Relationship Id="rId7" Type="http://schemas.openxmlformats.org/officeDocument/2006/relationships/hyperlink" Target="http://www.spellingcity.com/index.php?option=com_spellcity&amp;task=viewList&amp;listId=826016" TargetMode="External"/><Relationship Id="rId8" Type="http://schemas.openxmlformats.org/officeDocument/2006/relationships/hyperlink" Target="http://www.spellingcity.com/index.php?option=com_spellcity&amp;task=viewList&amp;listId=826020" TargetMode="External"/><Relationship Id="rId9" Type="http://schemas.openxmlformats.org/officeDocument/2006/relationships/hyperlink" Target="http://www.scottsboro.org/~flewis/SF%20Reading%20Street/spellmaster/Weed%20Is%20a%20Flower%20Spelling%20Words/speedword2.html" TargetMode="External"/><Relationship Id="rId10" Type="http://schemas.openxmlformats.org/officeDocument/2006/relationships/hyperlink" Target="http://www.scottsboro.org/~flewis/SF%20Reading%20Street/spellmaster/Weed%20Is%20a%20Flower%20Spelling%20Words/wordweb.html" TargetMode="External"/><Relationship Id="rId11" Type="http://schemas.openxmlformats.org/officeDocument/2006/relationships/hyperlink" Target="http://www.quia.com/rr/232059.html" TargetMode="External"/><Relationship Id="rId12" Type="http://schemas.openxmlformats.org/officeDocument/2006/relationships/hyperlink" Target="http://www.spellingcity.com/index.php?option=com_spellcity&amp;Itemid=122&amp;task=viewList&amp;listId=354254" TargetMode="External"/><Relationship Id="rId13" Type="http://schemas.openxmlformats.org/officeDocument/2006/relationships/hyperlink" Target="http://www.scottsboro.org/~flewis/SF%20Reading%20Street/Hot%20Potatoes/Weed_Is_a_Flower.htm" TargetMode="External"/><Relationship Id="rId14" Type="http://schemas.openxmlformats.org/officeDocument/2006/relationships/hyperlink" Target="http://www.scottsboro.org/~flewis/SF%20Reading%20Street/Hot%20Potatoes/Weed_Is_a_Flower.htm" TargetMode="External"/><Relationship Id="rId15" Type="http://schemas.openxmlformats.org/officeDocument/2006/relationships/hyperlink" Target="http://www.spellingcity.com/index.php?option=com_spellcity&amp;task=viewList&amp;listId=826024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owe.lib.wv.us/read01.jpg&amp;imgrefurl=http://lowe.lib.wv.us/childdept.html&amp;usg=__vYxkHByAVwIH8kw_pPQKKnkQvc8=&amp;h=500&amp;w=500&amp;sz=55&amp;hl=EN&amp;start=1&amp;tbnid=cY0U7Js_2GInPM:&amp;tbnh=130&amp;tbnw=130&amp;prev=/images?q=read&amp;gbv=2&amp;ndsp=20&amp;hl=EN&amp;sa=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picture-book.com/files/userimages/264u/gu_thkrthnwtr_plead.jpg&amp;imgrefurl=http://picture-book.com/node/3301&amp;usg=__HmHEI2-dOJ4X6d-y2tHrFz8Mw0E=&amp;h=360&amp;w=360&amp;sz=33&amp;hl=EN&amp;start=1&amp;tbnid=8f5w7XTNvHNIrM:&amp;tbnh=121&amp;tbnw=121&amp;prev=/images?q=plead&amp;gbv=2&amp;hl=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joprint.jp/images/folds/cross-fold.jpg&amp;imgrefurl=http://www.mojoprint.jp/folding.php&amp;usg=__KXkO7B6xp2WCbkthgDWMm-o1-gc=&amp;h=400&amp;w=400&amp;sz=18&amp;hl=EN&amp;start=1&amp;tbnid=xKGXyxJkKShpJM:&amp;tbnh=124&amp;tbnw=124&amp;prev=/images?q=fold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usagold.com/images/gold-coins-images.jpeg&amp;imgrefurl=http://www.usagold.com/gold-coins.html&amp;usg=__usmyZntQPl5E_XoXRRa3D2XZJ5Y=&amp;h=300&amp;w=300&amp;sz=49&amp;hl=EN&amp;start=2&amp;tbnid=hmlIpYP-qEvkeM:&amp;tbnh=116&amp;tbnw=116&amp;prev=/images?q=gold&amp;gbv=2&amp;hl=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farm3.static.flickr.com/2060/1865482908_20b890274b.jpg&amp;imgrefurl=http://www.flickr.com/photos/batega/1865482908/&amp;usg=__Xc3YexhIzno-OmMmLe1jriAfcus=&amp;h=333&amp;w=500&amp;sz=42&amp;hl=EN&amp;start=2&amp;tbnid=mG5QjkTKMM-95M:&amp;tbnh=87&amp;tbnw=130&amp;prev=/images?q=hold&amp;gbv=2&amp;ndsp=20&amp;hl=EN&amp;sa=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kingsteamrestoration.com/images/mold12.jpg&amp;imgrefurl=http://kingsteamrestoration.com/MOLD__REMEDIATION__MIAMI.HTML&amp;usg=__K4AwzRL-N4TxHJpxH5lChWI-Dz0=&amp;h=360&amp;w=480&amp;sz=24&amp;hl=EN&amp;start=3&amp;tbnid=4ub7I20NerYPfM:&amp;tbnh=97&amp;tbnw=129&amp;prev=/images?q=mold&amp;gbv=2&amp;hl=EN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www.socketsite.com/archives/39%2520Chattanooga%2520Sold.jpg&amp;imgrefurl=http://www.socketsite.com/archives/2006/06/&amp;usg=__eu6bvO_X7z2sXJwZdyvMFnc77xA=&amp;h=375&amp;w=499&amp;sz=53&amp;hl=EN&amp;start=7&amp;tbnid=AJEDJ2xfRB8q9M:&amp;tbnh=98&amp;tbnw=130&amp;prev=/images?q=sold&amp;gbv=2&amp;hl=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internetrealestatesuccess.com/wp-content/uploads/2009/01/momscolding.jpg&amp;imgrefurl=http://internetrealestatesuccess.com/2009/02/10/no-one-likes-being-told-what-to-do/&amp;usg=__-KjGLDuukKwiI72YSkPvi4nxkBE=&amp;h=330&amp;w=480&amp;sz=172&amp;hl=EN&amp;start=22&amp;tbnid=WQ2LW_lr2Z3zoM:&amp;tbnh=89&amp;tbnw=129&amp;prev=/images?q=told&amp;gbv=2&amp;ndsp=20&amp;hl=EN&amp;sa=N&amp;start=20" TargetMode="External"/><Relationship Id="rId12" Type="http://schemas.openxmlformats.org/officeDocument/2006/relationships/image" Target="../media/image13.jpeg"/><Relationship Id="rId13" Type="http://schemas.openxmlformats.org/officeDocument/2006/relationships/hyperlink" Target="http://images.google.com/imgres?imgurl=http://www.und.ac.za/und/ling/camese_scold.gif&amp;imgrefurl=http://www.und.ac.za/und/ling/camese.html&amp;usg=__hk0lvS8QgIAvT5fHaUkiDu6w928=&amp;h=199&amp;w=189&amp;sz=31&amp;hl=EN&amp;start=4&amp;tbnid=f8mJeuPdPfQpmM:&amp;tbnh=104&amp;tbnw=99&amp;prev=/images?q=scold&amp;gbv=2&amp;hl=EN" TargetMode="External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7.xml"/><Relationship Id="rId3" Type="http://schemas.openxmlformats.org/officeDocument/2006/relationships/slide" Target="slide106.xml"/><Relationship Id="rId4" Type="http://schemas.openxmlformats.org/officeDocument/2006/relationships/slide" Target="slide144.xml"/><Relationship Id="rId5" Type="http://schemas.openxmlformats.org/officeDocument/2006/relationships/slide" Target="slide162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rtualmuseum.ca/Exhibitions/ManitobaCrafts/storyofwool/images/artifacts/loom.jpg&amp;imgrefurl=http://www.virtualmuseum.ca/Exhibitions/ManitobaCrafts/storyofwool/artifacts/loom.html&amp;usg=__pZXWx_fXhQDOiJ3su4_fhBjNr7o=&amp;h=300&amp;w=324&amp;sz=15&amp;hl=EN&amp;start=6&amp;tbnid=A2ZXfz5VApBp3M:&amp;tbnh=109&amp;tbnw=118&amp;prev=/images?q=loom&amp;gbv=2&amp;hl=E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www.gatewaytosedona.com/image/articles/1687/Flowers.jpg&amp;imgrefurl=http://www.gatewaytosedona.com/article/id/1687/page/1&amp;usg=__ivozJyzydoVWvTYg2zbTuzB-GpU=&amp;h=286&amp;w=418&amp;sz=40&amp;hl=EN&amp;start=3&amp;tbnid=z0KtR3eZXUhJ1M:&amp;tbnh=86&amp;tbnw=125&amp;prev=/images?q=flower+bloom&amp;gbv=2&amp;hl=EN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tascoenterprises.com/photos/YardCornBroom.jpg&amp;imgrefurl=http://tascoenterprises.com/product.asp?catalogID=129&amp;typeID=237&amp;usg=__XTZZ3h_C0QrFCjoowggeiHLnJAw=&amp;h=1696&amp;w=1500&amp;sz=275&amp;hl=EN&amp;start=45&amp;tbnid=e9LHInwfVUuUpM:&amp;tbnh=150&amp;tbnw=133&amp;prev=/images?q=broom&amp;gbv=2&amp;ndsp=20&amp;hl=EN&amp;sa=N&amp;start=40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i20.photobucket.com/albums/b238/hawk213/gloom.jpg&amp;imgrefurl=http://www.myspace.com/kolumkilli&amp;usg=__ga9SAXWzqX6wipoQ0VJkkh0QJQQ=&amp;h=300&amp;w=500&amp;sz=26&amp;hl=EN&amp;start=13&amp;tbnid=bEMGc8cXx1BrdM:&amp;tbnh=78&amp;tbnw=130&amp;prev=/images?q=gloom&amp;gbv=2&amp;hl=EN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ridalxpress.com/catalog/32318-air-force-cake-topper.jpg&amp;imgrefurl=http://www.bridalxpress.com/servlet/the-262/air-force-cake-top/Detail&amp;usg=__onGEgrzPpRU98WE-fgiaCEX9yqU=&amp;h=400&amp;w=400&amp;sz=82&amp;hl=EN&amp;start=1&amp;tbnid=Zmtj7SRTabdJYM:&amp;tbnh=124&amp;tbnw=124&amp;prev=/images?q=bride+and++groomcaketopper%255C&amp;gbv=2&amp;hl=EN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" Target="slide94.xml"/><Relationship Id="rId3" Type="http://schemas.openxmlformats.org/officeDocument/2006/relationships/slide" Target="slide95.xml"/><Relationship Id="rId4" Type="http://schemas.openxmlformats.org/officeDocument/2006/relationships/slide" Target="slide96.xml"/><Relationship Id="rId5" Type="http://schemas.openxmlformats.org/officeDocument/2006/relationships/slide" Target="slide96.xml"/><Relationship Id="rId6" Type="http://schemas.openxmlformats.org/officeDocument/2006/relationships/slide" Target="slide96.xml"/><Relationship Id="rId7" Type="http://schemas.openxmlformats.org/officeDocument/2006/relationships/slide" Target="slide96.xml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image04.webshots.com/4/0/28/62/57302862krmJSq_fs.jpg&amp;imgrefurl=http://travel.webshots.com/photo/1057302862027581078krmJSq&amp;usg=__EWG0vw-TnLftO_n8b85vgSAk5mQ=&amp;h=788&amp;w=1181&amp;sz=133&amp;hl=EN&amp;start=18&amp;tbnid=faeben_ekGEIcM:&amp;tbnh=100&amp;tbnw=150&amp;prev=/images?q=auburn+university&amp;gbv=2&amp;hl=EN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www.schooldesigns.com/catalog/images/608asu2021.jpg&amp;imgrefurl=http://www.schooldesigns.com/ResultsDetail.asp?id=2464&amp;usg=__XEM55Gk2I6zQOmczx2Ia1brN3cg=&amp;h=330&amp;w=450&amp;sz=49&amp;hl=EN&amp;start=4&amp;tbnid=Ri3QJtsMt7j7vM:&amp;tbnh=93&amp;tbnw=127&amp;prev=/images?q=university+of+alabama&amp;gbv=2&amp;hl=EN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images.google.com/imgres?imgurl=http://www.stateuniversity.com/assets/logo/image/596/large/health_sciences_complex.gif&amp;imgrefurl=http://www.stateuniversity.com/universities/AL/Northeast_Alabama_Community_College.html&amp;usg=__6HjEbk11ZkS7eCiBNDtWkqKq9ns=&amp;h=300&amp;w=500&amp;sz=63&amp;hl=EN&amp;start=5&amp;tbnid=8gaNhJH0z90gqM:&amp;tbnh=78&amp;tbnw=130&amp;prev=/images?q=northeast+alabama+commity+college&amp;gbv=2&amp;hl=EN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ww.state.sd.us/DOA/images/SD-Harvest.jpg&amp;imgrefurl=http://www.state.sd.us/DOA/&amp;usg=__D_HbDJscsHZMjeOHSAY3xNtgh90=&amp;h=957&amp;w=1404&amp;sz=154&amp;hl=EN&amp;start=3&amp;tbnid=yxY7EiDUHjTP5M:&amp;tbnh=102&amp;tbnw=150&amp;prev=/images?q=agriculture&amp;gbv=2&amp;hl=EN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images.google.com/imgres?imgurl=http://thelivingmurray.mdbc.gov.au/__data/page/1328/JB_agriculture_berri.jpg&amp;imgrefurl=http://thelivingmurray.mdbc.gov.au/?p=1328&amp;usg=__1VRd50e0GXm6fcaiTX1AHZ0qddM=&amp;h=848&amp;w=1272&amp;sz=377&amp;hl=EN&amp;start=11&amp;tbnid=LVsjQsz277ksVM:&amp;tbnh=100&amp;tbnw=150&amp;prev=/images?q=agriculture&amp;gbv=2&amp;hl=EN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images.google.com/imgres?imgurl=http://www.agworkers.com/images/agriculture.jpg&amp;imgrefurl=http://www.agworkers.com/&amp;usg=__2yxcI6zlCSJepQ3Dtp0DU03lxcM=&amp;h=425&amp;w=902&amp;sz=297&amp;hl=EN&amp;start=25&amp;tbnid=af_sEwWuxilHaM:&amp;tbnh=69&amp;tbnw=146&amp;prev=/images?q=agriculture&amp;gbv=2&amp;ndsp=20&amp;hl=EN&amp;sa=N&amp;start=20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ww.ucm.es/info/gsolfa/imagenes/orellana_Organic_and_Inorganic_Synthesis_Laboratory.jpg&amp;imgrefurl=http://www.ucm.es/info/gsolfa/Our_laboratories.htm&amp;usg=__pUSipdTqx_39i9WQaL53TeZEH38=&amp;h=960&amp;w=1280&amp;sz=64&amp;hl=EN&amp;start=7&amp;tbnid=ZWjNIq-Qc_R1LM:&amp;tbnh=113&amp;tbnw=150&amp;prev=/images?q=laboratory&amp;gbv=2&amp;hl=EN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www.bmvbs.de/Bild/original_971849/Research-in-a-genetic-engineering-laboratory.jpg&amp;imgrefurl=http://www.bmvbs.de/en/Federal-Government-Commissione/Economy-and-investments-,2575.971853/Investing-in-the-future-of-res.htm&amp;usg=__BTLAR8ROFEYtYlsyuTs3qqx8MuA=&amp;h=333&amp;w=450&amp;sz=31&amp;hl=EN&amp;start=13&amp;tbnid=TRuTsaF8LWRTsM:&amp;tbnh=94&amp;tbnw=127&amp;prev=/images?q=laboratory&amp;gbv=2&amp;hl=EN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s.google.com/imgres?imgurl=http://corrosion.ksc.nasa.gov/images/KSC-Corrosion-Laboratory.jpg&amp;imgrefurl=http://corrosion.ksc.nasa.gov/ksclab.htm&amp;usg=__7x6EPDJR-MryiuJGjt9ayKnaDeQ=&amp;h=342&amp;w=400&amp;sz=30&amp;hl=EN&amp;start=24&amp;tbnid=41q8Ru8mOwyKNM:&amp;tbnh=106&amp;tbnw=124&amp;prev=/images?q=laboratory&amp;gbv=2&amp;ndsp=20&amp;hl=EN&amp;sa=N&amp;start=20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s.google.com/imgres?imgurl=http://202.38.70.95/ocw/NR/rdonlyres/Mechanical-Engineering/2-672Spring2004/30BE4FB9-BC8A-47D8-92D7-83E7DBCCF352/0/chp_pipe_clear.jpg&amp;imgrefurl=http://202.38.70.95/ocw/OcwWeb/Mechanical-Engineering/2-672Spring2004/CourseHome/index.htm&amp;usg=__gVbQpcgpUgVxFOBJ47plndnq3AE=&amp;h=350&amp;w=399&amp;sz=67&amp;hl=EN&amp;start=34&amp;tbnid=sEQpZ01fKtn_pM:&amp;tbnh=109&amp;tbnw=124&amp;prev=/images?q=laboratory&amp;gbv=2&amp;ndsp=20&amp;hl=EN&amp;sa=N&amp;start=20" TargetMode="External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orldwatts.com/gael/greenhouse_2.jpg&amp;imgrefurl=http://worldwatts.com/gadgets/Greenhouse%2520plans/&amp;usg=__GriP6ojDp56UX7rDmXOiYDXljUw=&amp;h=500&amp;w=500&amp;sz=77&amp;hl=EN&amp;start=1&amp;tbnid=JoAWa3-YkRDfYM:&amp;tbnh=130&amp;tbnw=130&amp;prev=/images?q=greenhouse&amp;gbv=2&amp;hl=EN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images.google.com/imgres?imgurl=http://newfarm.osu.edu/crops/images/greenhouse.jpg&amp;imgrefurl=http://newfarm.osu.edu/crops/greenhouse.html&amp;usg=__-86IHzcHy9zJoG6BDIpNoG5ZkC0=&amp;h=375&amp;w=300&amp;sz=17&amp;hl=EN&amp;start=3&amp;tbnid=Qn8sM5wIURyiWM:&amp;tbnh=122&amp;tbnw=98&amp;prev=/images?q=greenhouse&amp;gbv=2&amp;hl=EN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images.google.com/imgres?imgurl=http://www.solar-components.com/conservatory_greenhouse_big.jpeg&amp;imgrefurl=http://www.solar-components.com/gh_conservatory.htm&amp;usg=__m6JFKdtrSyi3z554NM3dnX3NY8g=&amp;h=301&amp;w=400&amp;sz=74&amp;hl=EN&amp;start=8&amp;tbnid=_tnv-Lkuo4kKhM:&amp;tbnh=93&amp;tbnw=124&amp;prev=/images?q=greenhouse&amp;gbv=2&amp;hl=EN" TargetMode="External"/><Relationship Id="rId7" Type="http://schemas.openxmlformats.org/officeDocument/2006/relationships/image" Target="../media/image34.jpeg"/><Relationship Id="rId8" Type="http://schemas.openxmlformats.org/officeDocument/2006/relationships/hyperlink" Target="http://images.google.com/imgres?imgurl=http://www.solar-components.com/oasis_greenhouse.jpg&amp;imgrefurl=http://www.solar-components.com/gh_oasis.htm&amp;usg=__l_G-Tuhp7DM7RkOynRgetj4gjJg=&amp;h=376&amp;w=400&amp;sz=74&amp;hl=EN&amp;start=18&amp;tbnid=zz07K5I39nKRUM:&amp;tbnh=117&amp;tbnw=124&amp;prev=/images?q=greenhouse&amp;gbv=2&amp;hl=EN" TargetMode="External"/><Relationship Id="rId9" Type="http://schemas.openxmlformats.org/officeDocument/2006/relationships/image" Target="../media/image35.jpeg"/><Relationship Id="rId10" Type="http://schemas.openxmlformats.org/officeDocument/2006/relationships/hyperlink" Target="http://images.google.com/imgres?imgurl=https://www2.lsmsecure.com/itd/shop/images/T/HydroGreenhouse2.jpg&amp;imgrefurl=https://www2.lsmsecure.com/itd/shop/16354633/home.php?printable=Y&amp;cat=748&amp;sort=orderby&amp;sort_direction=1&amp;usg=__sIKWQ2ZzFbw0BJDdBQcGNrG5XyM=&amp;h=325&amp;w=333&amp;sz=22&amp;hl=EN&amp;start=21&amp;tbnid=rfVSBamjsizlfM:&amp;tbnh=116&amp;tbnw=119&amp;prev=/images?q=greenhouse&amp;gbv=2&amp;ndsp=20&amp;hl=EN&amp;sa=N&amp;start=20" TargetMode="External"/><Relationship Id="rId11" Type="http://schemas.openxmlformats.org/officeDocument/2006/relationships/image" Target="../media/image36.jpeg"/><Relationship Id="rId12" Type="http://schemas.openxmlformats.org/officeDocument/2006/relationships/hyperlink" Target="http://images.google.com/imgres?imgurl=http://www.niagarafrontier.com/image/greenhouse2.jpg&amp;imgrefurl=http://www.niagarafrontier.com/greenhouse.html&amp;usg=__4OMBHsiyp0LoDKtl0d5BG1LnA9w=&amp;h=650&amp;w=432&amp;sz=134&amp;hl=EN&amp;start=34&amp;tbnid=Y9k4EoVgGcXGbM:&amp;tbnh=137&amp;tbnw=91&amp;prev=/images?q=greenhouse&amp;gbv=2&amp;ndsp=20&amp;hl=EN&amp;sa=N&amp;start=20" TargetMode="External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here do creative ideas come from?</a:t>
            </a: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400" spc="-1" strike="noStrike">
                <a:solidFill>
                  <a:srgbClr val="fac164"/>
                </a:solidFill>
                <a:latin typeface="Times New Roman"/>
              </a:rPr>
              <a:t>Click to listen to story.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18" descr="Weed Is a Flow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52680" y="2666880"/>
            <a:ext cx="276084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Cause/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verb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can tell what someone or something is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verb can show something that happen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now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in the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pa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or in the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utu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 change when we talk about one or more than one person or thing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also change when we talk about the past or pres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talk about the pas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are used with one or more people or thin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are used with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am, is, are, was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do not show action.  They show what someone or something is or wa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se verbs are forms of the verb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to b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am, is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 are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about now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was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 were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about the pa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A seed is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is the verb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 seeds ____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I ____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se trees were once just see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 tree ___ once just a se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nitor &amp; Fix U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you will hear a read aloud that tells more about where ideas come fro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3880" y="2743200"/>
          <a:ext cx="6934320" cy="32004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ite about an idea you ha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nd tell how you thought of it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62120" y="2133720"/>
          <a:ext cx="7772400" cy="37972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ymakers make better toys every year.  Some are faster and some are louder. Some are even smarter! How would you mak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your favorite toy better?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2133720"/>
          <a:ext cx="7696440" cy="379728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ymakers mak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et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toys every year.  Some ar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fas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and some ar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loud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. Some are even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smar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! How would you mak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your favorite toy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et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?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ng i: i, ie, igh, 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ynony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scienti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ci – en – ti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scienti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a person who is trained in science and is an expert in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Scientist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have discovered many things about the world we live i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unusu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– u – su – 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thing that i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unus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not usual or not ordina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hildren made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unus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barbecue sauce when they were trying to act like scientis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eddy’s Bea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exce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x – cel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something, you’re better than most people at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Kayla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ma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entor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n creative think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ython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ython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 – es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something, you prepare it by following a set of step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y raincoat has bee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make it waterproof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peanuts into many things, including shaving cream and shampo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29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rhymes with flow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rhymes with ho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mo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wasn’t sure how to answer the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ques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was the ____ one who raise my h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29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y mom ____ school for twelve yea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tau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y pants and shirts are too small so I will have to buy some new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clot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r. Johnson is our next door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neighb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soak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838080" y="2362320"/>
          <a:ext cx="7696440" cy="2039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ak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c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ak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soak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05" name="Picture 2" descr="http://tbn3.google.com/images?q=tbn:Vn3_HHku2oELzM:http://www.ivymoon.co.uk/products/images/cloaks/hermit_cloak.jpg"/>
          <p:cNvPicPr/>
          <p:nvPr/>
        </p:nvPicPr>
        <p:blipFill>
          <a:blip r:embed="rId1"/>
          <a:stretch/>
        </p:blipFill>
        <p:spPr>
          <a:xfrm>
            <a:off x="2057400" y="2666880"/>
            <a:ext cx="1371600" cy="232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tbn2.google.com/images?q=tbn:EO8KE9C0BTDOeM:http://www.frogsonice.com/froggy/images/trotrfrg.jpg"/>
          <p:cNvPicPr/>
          <p:nvPr/>
        </p:nvPicPr>
        <p:blipFill>
          <a:blip r:embed="rId2"/>
          <a:stretch/>
        </p:blipFill>
        <p:spPr>
          <a:xfrm>
            <a:off x="4572000" y="2895480"/>
            <a:ext cx="1981080" cy="1892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6"/>
          <p:cNvSpPr/>
          <p:nvPr/>
        </p:nvSpPr>
        <p:spPr>
          <a:xfrm>
            <a:off x="2239560" y="4952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cloa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4906800" y="48006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croa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colder and col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hotter, 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sadder and sad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happier, happ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bigger and bigg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maller, smalle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later and l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ooner, soon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more crooked and most crook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traight, straigh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thinner and thinn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atter, fa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ynony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es and Susan Carver thought that George was an unusual child.  He was also described as small and wea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authors write, they choose certain words but other words with the same or similar meanings could also be us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ynony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ords that have similar meanings are called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ynonym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George remained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small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weak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But as he grew, they saw he was an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unusual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ind a word to use in place of the underlined word without changing the meaning of the sent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</a:rPr>
              <a:t>i am happyest when I are busy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164"/>
                </a:solidFill>
                <a:latin typeface="Verdana"/>
              </a:rPr>
              <a:t>I am happiest when I am busy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</a:rPr>
              <a:t>then I finich my work soonner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164"/>
                </a:solidFill>
                <a:latin typeface="Verdana"/>
              </a:rPr>
              <a:t>Then I finish my work sooner.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resear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 – search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eans a very careful investigation or hunting for fa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 did a lot of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make sure the facts in my report about weather were corr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 found many ways to use peanuts through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forms of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to be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whether it is about one or more than one and whether it takes place in the past or the pres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Dr. Carver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a scienti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ome people he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helped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were farm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oday, many people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farm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a farmer to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sin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Nat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sin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sing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you will read about how to find information on the intern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371600" y="28195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se at least one pair of synonyms in a description of George Washington Carver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762120" y="2286000"/>
          <a:ext cx="8153280" cy="4187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day we are going to read about an amazing kind of technology,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Internet. Maria wants to search the net for information. Have you ever searched a www. address before? What do you know about the Internet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62120" y="2286000"/>
          <a:ext cx="8153280" cy="4187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day we are going to read about an amazing kind of technology,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Internet. Maria wants to search th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net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for information. Have you ever searched a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www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. address before? What do you know about the Internet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ummarize inform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had a backyard birthday party for their oldest daught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tt fished alone by the riverbank for half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e caught the biggest, fattest catfish ever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o’s the youngest baseball player on the team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Verdana"/>
                <a:ea typeface="Verdana"/>
              </a:rPr>
              <a:t>Click to listen to a song about what you can make out of a peanut.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Picture 2" descr="What Can a Peanut Be?"/>
          <p:cNvPicPr/>
          <p:nvPr/>
        </p:nvPicPr>
        <p:blipFill>
          <a:blip r:embed="rId1"/>
          <a:srcRect l="0" t="0" r="0" b="7060"/>
          <a:stretch/>
        </p:blipFill>
        <p:spPr>
          <a:xfrm>
            <a:off x="4267080" y="91440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cannot buy the larger toybox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played basketball in the drivew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scored many poi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wrote </a:t>
            </a:r>
            <a:r>
              <a:rPr b="1" lang="en-US" sz="1400" spc="-1" strike="noStrike">
                <a:solidFill>
                  <a:srgbClr val="2a3d7a"/>
                </a:solidFill>
                <a:latin typeface="Verdana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2362320"/>
          <a:ext cx="7696440" cy="247464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v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sm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wrot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47" name="Picture 2" descr="http://tbn2.google.com/images?q=tbn:M-3KctuRGlA5XM:http://www.happynote.com/music/pictures/cpt-treble-17notes-500x375.gif"/>
          <p:cNvPicPr/>
          <p:nvPr/>
        </p:nvPicPr>
        <p:blipFill>
          <a:blip r:embed="rId1"/>
          <a:stretch/>
        </p:blipFill>
        <p:spPr>
          <a:xfrm>
            <a:off x="6172200" y="2438280"/>
            <a:ext cx="1717560" cy="1295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http://tbn3.google.com/images?q=tbn:2JAnAA4CyJ44DM:http://upload.wikimedia.org/wikipedia/en/thumb/0/0b/WebNoteRegularNote.jpg/400px-WebNoteRegularNote.jpg"/>
          <p:cNvPicPr/>
          <p:nvPr/>
        </p:nvPicPr>
        <p:blipFill>
          <a:blip r:embed="rId2"/>
          <a:stretch/>
        </p:blipFill>
        <p:spPr>
          <a:xfrm>
            <a:off x="3581280" y="2438280"/>
            <a:ext cx="1544760" cy="1295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http://tbn3.google.com/images?q=tbn:ssH_hiVptFDdfM:http://www.istockphoto.com/file_thumbview_approve/3284516/2/istockphoto_3284516-note-paper.jpg"/>
          <p:cNvPicPr/>
          <p:nvPr/>
        </p:nvPicPr>
        <p:blipFill>
          <a:blip r:embed="rId3"/>
          <a:stretch/>
        </p:blipFill>
        <p:spPr>
          <a:xfrm>
            <a:off x="1371600" y="2362320"/>
            <a:ext cx="1371600" cy="1260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http://tbn2.google.com/images?q=tbn:kekmgleQwVUgrM:http://www.iheartluxe.com/wp-content/uploads/2008/06/ginette-niki-tote.jpg"/>
          <p:cNvPicPr/>
          <p:nvPr/>
        </p:nvPicPr>
        <p:blipFill>
          <a:blip r:embed="rId4"/>
          <a:stretch/>
        </p:blipFill>
        <p:spPr>
          <a:xfrm>
            <a:off x="762120" y="4267080"/>
            <a:ext cx="1498320" cy="1447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http://tbn3.google.com/images?q=tbn:9q_7OzqhOCoOHM:http://www.onzone.ca/images/timeline/1888_vote.jpg"/>
          <p:cNvPicPr/>
          <p:nvPr/>
        </p:nvPicPr>
        <p:blipFill>
          <a:blip r:embed="rId5"/>
          <a:stretch/>
        </p:blipFill>
        <p:spPr>
          <a:xfrm>
            <a:off x="4572000" y="47242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http://tbn2.google.com/images?q=tbn:glu6IA19vv-K-M:http://www.acu.edu/academics/library/images/vote2.jpg"/>
          <p:cNvPicPr/>
          <p:nvPr/>
        </p:nvPicPr>
        <p:blipFill>
          <a:blip r:embed="rId6"/>
          <a:stretch/>
        </p:blipFill>
        <p:spPr>
          <a:xfrm>
            <a:off x="2971800" y="4572000"/>
            <a:ext cx="12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http://tbn0.google.com/images?q=tbn:lz-YuQzH2fjbuM:http://www.cricket.org/db/PICTURES/CMS/77100/77132.jpg"/>
          <p:cNvPicPr/>
          <p:nvPr/>
        </p:nvPicPr>
        <p:blipFill>
          <a:blip r:embed="rId7"/>
          <a:stretch/>
        </p:blipFill>
        <p:spPr>
          <a:xfrm>
            <a:off x="7086600" y="4267080"/>
            <a:ext cx="1295280" cy="18320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1"/>
          <p:cNvSpPr/>
          <p:nvPr/>
        </p:nvSpPr>
        <p:spPr>
          <a:xfrm>
            <a:off x="1618560" y="36576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38282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65714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TextBox 14"/>
          <p:cNvSpPr/>
          <p:nvPr/>
        </p:nvSpPr>
        <p:spPr>
          <a:xfrm>
            <a:off x="1088280" y="5715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t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3913560" y="59436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v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7192080" y="6095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m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he Experiment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Student Pages"/>
          <p:cNvPicPr/>
          <p:nvPr/>
        </p:nvPicPr>
        <p:blipFill>
          <a:blip r:embed="rId1"/>
          <a:stretch/>
        </p:blipFill>
        <p:spPr>
          <a:xfrm>
            <a:off x="533520" y="914400"/>
            <a:ext cx="83055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Student Pages"/>
          <p:cNvPicPr/>
          <p:nvPr/>
        </p:nvPicPr>
        <p:blipFill>
          <a:blip r:embed="rId1"/>
          <a:stretch/>
        </p:blipFill>
        <p:spPr>
          <a:xfrm>
            <a:off x="609480" y="838080"/>
            <a:ext cx="83059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he are a plant dotcor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He is a plant docto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i am knot too good with plants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I am not too good with plants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some forms of the verb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</a:rPr>
              <a:t>to b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se verbs don’t show action.  What do they show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They show what someone or something is or w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Minute Men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hero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grandfather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good storytell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ura Ingalls Wilder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pioneer. S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lso a wri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joking  -   dri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do you know about reading these wo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oth has 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base word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an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nding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pelling chang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the endings?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the spelling chang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you’ll learn about the ending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–er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nd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–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king Connec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You heard about two children who decided to be scientists.  Tomorrow you will hear about Abby and Joey agai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6765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st places and tools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or research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43000" y="2666880"/>
          <a:ext cx="7543800" cy="3213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is week we read about one illustrator, two toymakers, and three scientists. Where did their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2640" y="2101680"/>
            <a:ext cx="80010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apple tastes sweeter and juicier than the oth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apple tastes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swee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juic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oth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ate the largest piece of meat because I was hungrier than usu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ate th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larg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piece of meat because I was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hungr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usu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at is the tiniest, prettiest ring I have ever s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at is th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tin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prett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ring I have ever s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trees look lovelier in summer when their leaves are green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trees look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lovel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 summer when their leaves ar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gree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w many more ___ will we drive before we get ther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hou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did extra chores so I could earn some 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mone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unnier   -    funn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base word in these words i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unny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  What spelling changes do you se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 blend these words, read one chunk, or syllable, at a time and then blend the chunks together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fun, ni, er, funnier; fun, ni, est, f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old ____ are too small, so I will have to get new on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cloth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next door ____ lets me play with her do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neighb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 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210168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n you please repeat the ____ you aske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ques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your one and _____ chance to get it righ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on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dad _____ me how to fly a ki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taugh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the science lab was hoter this weak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The science lab was hotter this week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my plant are the smallest one,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My plant is the smallest one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Verdana"/>
                <a:ea typeface="Verdana"/>
              </a:rPr>
              <a:t>Wrap Up Your Week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066680" y="43513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f5a"/>
                </a:solidFill>
                <a:latin typeface="Verdana"/>
                <a:ea typeface="Verdana"/>
              </a:rPr>
              <a:t>Let’s Talk About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f5a"/>
                </a:solidFill>
                <a:latin typeface="Verdana"/>
                <a:ea typeface="Verdana"/>
              </a:rPr>
              <a:t>Creative Idea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76520" y="2666880"/>
          <a:ext cx="6095880" cy="3919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ite about a process you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erform every day.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Related Link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914400" y="2286000"/>
          <a:ext cx="7924680" cy="384660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mpound Words Primary Resource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ational Geographic Kids Plant Pow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lant Parts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ho Lives Here?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eorge Washington Carver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aille Games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Good, Better, Best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rampolini Gam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0acc"/>
                </a:solidFill>
                <a:latin typeface="Verdana"/>
                <a:ea typeface="Times New Roman"/>
              </a:rPr>
              <a:t>We are now ready to take our story tests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Quiz # 90459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add –er to words when we compare two thin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My joke is </a:t>
            </a:r>
            <a:r>
              <a:rPr b="0" i="1" lang="en-US" sz="2800" spc="-1" strike="noStrike">
                <a:solidFill>
                  <a:srgbClr val="fac164"/>
                </a:solidFill>
                <a:latin typeface="Verdana"/>
              </a:rPr>
              <a:t>funnier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 than yours.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add –est to words when we compare three thing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Kelly told the </a:t>
            </a:r>
            <a:r>
              <a:rPr b="0" i="1" lang="en-US" sz="2800" spc="-1" strike="noStrike">
                <a:solidFill>
                  <a:srgbClr val="fac164"/>
                </a:solidFill>
                <a:latin typeface="Verdana"/>
              </a:rPr>
              <a:t>funniest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 joke of all.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3e6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2711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164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ac164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hunk the word into parts, the base word and the ending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ee if the base word has a spelling chan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ad the chunks from left to right and then blend all the chunks toget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624816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low, slower, slow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ig, bigger, big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olite, politer, poli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uffy, fluffier, fluff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unny, sunnier, s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ong, longer, lon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ad, madder, madd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ine, finer, fin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21016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7"/>
              </a:rPr>
              <a:t>Spelling City-Vo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8"/>
              </a:rPr>
              <a:t>Spelling City-Amaz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2360" y="21016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Spelling Word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High Frequency Word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ar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vel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gg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ra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unn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d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am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ealth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unn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af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car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bead</a:t>
            </a:r>
            <a:br>
              <a:rPr sz="4000"/>
            </a:b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362320"/>
          <a:ext cx="7772400" cy="18158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bead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76" name="Picture 2" descr="http://tbn0.google.com/images?q=tbn:cY0U7Js_2GInPM:http://lowe.lib.wv.us/read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514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bn0.google.com/images?q=tbn:8f5w7XTNvHNIrM:http://picture-book.com/files/userimages/264u/gu_thkrthnwtr_plea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3623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1924200" y="525780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re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965920" y="53341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ple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cold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752480"/>
          <a:ext cx="7677360" cy="4449960"/>
        </p:xfrm>
        <a:graphic>
          <a:graphicData uri="http://schemas.openxmlformats.org/drawingml/2006/table">
            <a:tbl>
              <a:tblPr/>
              <a:tblGrid>
                <a:gridCol w="2559240"/>
                <a:gridCol w="2558880"/>
                <a:gridCol w="255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sc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cold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3" name="Picture 2" descr="http://tbn3.google.com/images?q=tbn:xKGXyxJkKShpJM:http://www.mojoprint.jp/images/folds/cross-fol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09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tbn0.google.com/images?q=tbn:hmlIpYP-qEvkeM:http://www.usagold.com/images/gold-coins-images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tbn0.google.com/images?q=tbn:mG5QjkTKMM-95M:http://farm3.static.flickr.com/2060/1865482908_20b890274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62440" y="2438280"/>
            <a:ext cx="182268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tbn3.google.com/images?q=tbn:4ub7I20NerYPfM:http://kingsteamrestoration.com/images/mold1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2438280"/>
            <a:ext cx="1633680" cy="122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bn3.google.com/images?q=tbn:AJEDJ2xfRB8q9M:http://www.socketsite.com/archives/39%2520Chattanooga%2520Sold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143000" y="4495680"/>
            <a:ext cx="192096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http://tbn3.google.com/images?q=tbn:WQ2LW_lr2Z3zoM:http://internetrealestatesuccess.com/wp-content/uploads/2009/01/momscolding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4648320"/>
            <a:ext cx="1676520" cy="1157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http://tbn1.google.com/images?q=tbn:f8mJeuPdPfQpmM:http://www.und.ac.za/und/ling/camese_scold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4419720"/>
            <a:ext cx="1447920" cy="152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1306080" y="37339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f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3211920" y="380988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5269680" y="36576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h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7407720" y="36576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m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1769040" y="59436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4434480" y="5791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t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7033680" y="594360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c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0acc"/>
                </a:solidFill>
                <a:latin typeface="Verdana"/>
              </a:rPr>
              <a:t>Let’s Talk about Creative Idea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Student Pages"/>
          <p:cNvPicPr/>
          <p:nvPr/>
        </p:nvPicPr>
        <p:blipFill>
          <a:blip r:embed="rId1"/>
          <a:stretch/>
        </p:blipFill>
        <p:spPr>
          <a:xfrm>
            <a:off x="685800" y="838080"/>
            <a:ext cx="830592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ause and Eff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t things happen for a reas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ood readers ask themselves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at happen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y it happe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Paying attention to why things happen helps you understand what you r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Louis  Braill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he am the hapiest dog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He is the happiest dog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where is their a place too sit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Where is there a place to sit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verb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can tell what someone or something is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verb can show something that happens now, in the past, or in the futu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m, is, are, 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o not show action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show what someone or something is or was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se verbs are forms of the verb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to b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m, is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 are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ell about now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Jen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Des and Ali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vent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as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 were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ell about the pas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ll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Katie and Sam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vent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Use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m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as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to tell about one person, place or t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Use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to tell about more than one person, place, or t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nventors ____ clever people. (is, a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Zippers ____ invented not long ago. (was, we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inventions ____ everywhere. (is, ar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____ in the Young Inventors Club. (am, a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eorge _____ in the club too. (are, i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words with –er, 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the class will read about George Washington Carver, a man who found the need to solve problems in creative w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3880" y="25909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st things you excel in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t home and school.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8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3880" y="2133720"/>
          <a:ext cx="7162920" cy="42861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2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meone may have an idea for something to make our lives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tter and happier.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w can the smallest idea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come a great idea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8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3880" y="2133720"/>
          <a:ext cx="7162920" cy="42861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2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omeone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may have an idea for </a:t>
                      </a:r>
                      <a:r>
                        <a:rPr b="1" i="1" lang="en-US" sz="32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omething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to make our lives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tter and happier.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w can the smallest idea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come a great idea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nitor and fix-u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opportun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p – por – tu - ni – ty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a good chance or a favorabl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ad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go to a movie on Satur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ill we have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have a play date this week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accomplis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c – com - plish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mething, you succeed in carrying it out or finishing i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mayor of our town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e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many important thing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he was proud she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e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 much in only an hou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origin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 – rig - i – n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thing that i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the only one of its kind or the first of someth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e use my grandmother’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ipe for those delicious cooki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py machine makes copies of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pap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eddy’s Bea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dd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You can read this word because you know how to read words with endings –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–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base word and ending form redd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you come to a word with an –er or –est ending, figure out the base word (remember that there may have been a spelling change), read the word parts from left to right, and then blend the parts together to read the wor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in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i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unni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lu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lu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ucki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uck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ick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ick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a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at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arg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ar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32004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Verdana"/>
                <a:ea typeface="Verdana"/>
              </a:rPr>
              <a:t>Click to listen to “The Latest Ideas.”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47" name="Picture 1" descr="Phonics Songs and Rhymes Chart 15"/>
          <p:cNvPicPr/>
          <p:nvPr/>
        </p:nvPicPr>
        <p:blipFill>
          <a:blip r:embed="rId1"/>
          <a:srcRect l="0" t="0" r="3564" b="12217"/>
          <a:stretch/>
        </p:blipFill>
        <p:spPr>
          <a:xfrm>
            <a:off x="4267080" y="9144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Find the words with comparative endings in “The Latest Idea.”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123720" y="2514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us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gg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i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prett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3851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2a3d7a"/>
                </a:solidFill>
                <a:latin typeface="Verdana"/>
              </a:rPr>
              <a:t>Where do creative ideas come from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3276720"/>
            <a:ext cx="63309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ett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981080"/>
          <a:ext cx="2514600" cy="35816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505320" y="1600200"/>
          <a:ext cx="5410080" cy="4614840"/>
        </p:xfrm>
        <a:graphic>
          <a:graphicData uri="http://schemas.openxmlformats.org/drawingml/2006/table">
            <a:tbl>
              <a:tblPr/>
              <a:tblGrid>
                <a:gridCol w="54100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room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2362320"/>
          <a:ext cx="7620120" cy="313344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g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g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room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70" name="Picture 2" descr="http://tbn3.google.com/images?q=tbn:A2ZXfz5VApBp3M:http://www.virtualmuseum.ca/Exhibitions/ManitobaCrafts/storyofwool/images/artifacts/l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133720"/>
            <a:ext cx="2062440" cy="1904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tbn1.google.com/images?q=tbn:z0KtR3eZXUhJ1M:http://www.gatewaytosedona.com/image/articles/1687/Flow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2362320"/>
            <a:ext cx="199368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://tbn3.google.com/images?q=tbn:e9LHInwfVUuUpM:http://www.tascoenterprises.com/photos/YardCornBroo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2209680"/>
            <a:ext cx="1676520" cy="189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://tbn2.google.com/images?q=tbn:bEMGc8cXx1BrdM:http://i20.photobucket.com/albums/b238/hawk213/gloom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33720" y="48006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://tbn3.google.com/images?q=tbn:Zmtj7SRTabdJYM:http://www.bridalxpress.com/catalog/32318-air-force-cake-topp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4343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7409160" y="41911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br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589640" y="37339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b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1767960" y="4038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2684520" y="6095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5351760" y="6027840"/>
            <a:ext cx="12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r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259092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reative people discover many new things. Where do they get their ideas? Where do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hotter than the hottest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sooner we get to the park, the happier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busiest work day, so the soonest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2101680"/>
            <a:ext cx="7848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bus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ork day, so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ur new puppy is the smallest and fattest of them al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101680"/>
            <a:ext cx="7848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bus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ork day, so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ur new puppy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mall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fa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of them al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ause and Eff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t things happen for a reas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ood readers ask themselves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at happen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y it happe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ok for clue words that signal causes, such as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 so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 becau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Monitor and Fix 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you don’t understand something that happens in a story, it is a good idea to stop reading and look quickly over what they have already read to clear up any confusion about the sto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Monitor and Fix 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sk yourself questions as you read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Verdana"/>
              </a:rPr>
              <a:t>A Weed Is a Flow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Do I make sure I understand as I rea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Do I go back and look quickly for information I don’t know or underst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259092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reative people discover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many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new things. Where do they get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thei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ideas? Where do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High Frequency</a:t>
            </a:r>
            <a:br>
              <a:rPr sz="4000"/>
            </a:b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 Word Review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5640" y="21016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sw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clot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au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i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es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are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oney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wash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neighb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enoug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colleg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a school of learning to attend after high schoo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2" action="ppaction://hlinksldjump"/>
              </a:rPr>
              <a:t>agricultu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having to do with farm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3" action="ppaction://hlinksldjump"/>
              </a:rPr>
              <a:t>laboratory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a place where tests and experiments are do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5" action="ppaction://hlinksldjump"/>
              </a:rPr>
              <a:t>greenhouse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6" action="ppaction://hlinksldjump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– a building with glass or plastic sides where plants are kept wa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hlinkClick r:id="rId7" action="ppaction://hlinksldjump"/>
              </a:rPr>
              <a:t>Next sli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colle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08" name="Picture 4" descr="http://tbn3.google.com/images?q=tbn:faeben_ekGEIcM:http://image04.webshots.com/4/0/28/62/57302862krmJSq_f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9810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tbn0.google.com/images?q=tbn:Ri3QJtsMt7j7vM:http://www.schooldesigns.com/catalog/images/608asu202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1981080"/>
            <a:ext cx="2289240" cy="1676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tbn1.google.com/images?q=tbn:8gaNhJH0z90gqM:http://www.stateuniversity.com/assets/logo/image/596/large/health_sciences_complex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29000" y="45720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692000" y="3657600"/>
            <a:ext cx="22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Auburn Univers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5421960" y="365760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University of Alaba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2463840" y="60199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Northeast Alabama Community Colle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agricul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5" name="Picture 2" descr="http://tbn3.google.com/images?q=tbn:yxY7EiDUHjTP5M:http://www.state.sd.us/DOA/images/SD-Harves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209680"/>
            <a:ext cx="2666880" cy="1812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tbn3.google.com/images?q=tbn:LVsjQsz277ksVM:http://thelivingmurray.mdbc.gov.au/__data/page/1328/JB_agriculture_berri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00880" y="22096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http://tbn0.google.com/images?q=tbn:af_sEwWuxilHaM:http://www.agworkers.com/images/agricultur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4495680"/>
            <a:ext cx="3809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labora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9" name="Picture 2" descr="http://tbn1.google.com/images?q=tbn:ZWjNIq-Qc_R1LM:http://www.ucm.es/info/gsolfa/imagenes/orellana_Organic_and_Inorganic_Synthesis_Laborator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362320"/>
            <a:ext cx="2022480" cy="1523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tbn3.google.com/images?q=tbn:TRuTsaF8LWRTsM:http://www.bmvbs.de/Bild/original_971849/Research-in-a-genetic-engineering-laborator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2362320"/>
            <a:ext cx="1981080" cy="146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tbn0.google.com/images?q=tbn:41q8Ru8mOwyKNM:http://corrosion.ksc.nasa.gov/images/KSC-Corrosion-Labora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038480"/>
            <a:ext cx="2971800" cy="2540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ttp://tbn1.google.com/images?q=tbn:sEQpZ01fKtn_pM:http://202.38.70.95/ocw/NR/rdonlyres/Mechanical-Engineering/2-672Spring2004/30BE4FB9-BC8A-47D8-92D7-83E7DBCCF352/0/chp_pipe_clear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2362320"/>
            <a:ext cx="1733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greenhouse</a:t>
            </a: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24" name="Picture 2" descr="http://tbn2.google.com/images?q=tbn:JoAWa3-YkRDfYM:http://worldwatts.com/gael/greenhouse_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2286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http://tbn0.google.com/images?q=tbn:Qn8sM5wIURyiWM:http://newfarm.osu.edu/crops/images/greenhous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286000"/>
            <a:ext cx="1447560" cy="180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http://tbn3.google.com/images?q=tbn:_tnv-Lkuo4kKhM:http://www.solar-components.com/conservatory_greenhouse_big.jpe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2438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http://tbn3.google.com/images?q=tbn:zz07K5I39nKRUM:http://www.solar-components.com/oasis_greenhous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4572000"/>
            <a:ext cx="1695240" cy="1600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http://tbn2.google.com/images?q=tbn:rfVSBamjsizlfM:https://www2.lsmsecure.com/itd/shop/images/T/HydroGreenhouse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943600" y="4495680"/>
            <a:ext cx="1563840" cy="1524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http://tbn0.google.com/images?q=tbn:Y9k4EoVgGcXGbM:http://www.niagarafrontier.com/image/greenhouse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038480" y="4343400"/>
            <a:ext cx="1371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college, agriculture, laboratory, greenhous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grow plants in the _____ when it is cold outsid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greenhou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want to study _____ when I grow up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agri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college, agriculture, laboratory, greenhous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ne day I will go to ____ to learn more about pla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colle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re I will study seeds and plants in a 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it are smallest than that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It is smaller than that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plants that row of seeds straightere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Plant that row of  seeds straighte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0-12-06T02:57:27Z</dcterms:modified>
  <cp:revision>51</cp:revision>
  <dc:subject/>
  <dc:title>Slide 1</dc:title>
</cp:coreProperties>
</file>